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6F70-239A-4929-94F1-0E5D559F19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3721-3C91-4A5A-A1CF-C978D65DCB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30B6-C304-476E-8A40-981A2D69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0710-835D-4526-BA76-B243C0F1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D3E9-9797-4C5F-83B3-7FB86D2B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2F3-3C43-4F54-9702-BBE0FE9F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DAA-F5D4-4BFE-A053-D68C6E97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D86D-7731-4F26-A704-BAAF7920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C56-A490-4FCD-8DD0-B0CD9210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34B-0847-42CC-A224-29437234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D61-558E-4158-B131-6417F023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F78B-0022-4950-8377-9F5CDBA6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D5DF-4858-4A31-B90A-D4482A48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76D2-18CF-43C8-8284-E7D61EFF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0CBE-EF5B-4948-A67A-93C1CFAE89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2B4F-62FB-4A21-B221-DDA5143CAE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июня 2022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98BC-EC29-427A-829C-1BA75468E8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июня 2022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8817120" cy="59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881712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2-06-01T05:36:54Z</dcterms:modified>
  <cp:revision>139</cp:revision>
  <dc:subject/>
  <dc:title>Презентация PowerPoint</dc:title>
</cp:coreProperties>
</file>